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CE2B5-7AAF-4B26-8577-ACCFD08FA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D8458-1C71-4C76-9D95-D3C19BBE1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97CA2-E0F0-419D-B73A-6654684EE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2DEE5-CF3D-4259-A3A4-21BA19195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5A4A4-73D5-4456-A4B6-80F117433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3B60A-9E4C-46A1-ADE2-D4A737638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89C13-8747-412E-A175-50B74A131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5EB51-412F-4267-BB0F-46C21AD2F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D6076-C249-4CE3-A730-CDE1A3C3A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3B8F2-D5F5-4F5A-B49E-3E7699EEE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79049-73E8-4B79-8433-E318EF04F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68BDF-F136-494A-AA52-F037CBD0F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1492-7502-4B6D-BD94-1B8B265A3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0/0f/Epidaurus_Theater.jp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Dionysos_kantharos_BM_B589.jpg"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Greek Plays &amp; Theater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2" name="" descr="File:Epidaurus Theater.jpg">
            <a:hlinkClick r:id="rId2"/>
          </p:cNvPr>
          <p:cNvPicPr/>
          <p:nvPr/>
        </p:nvPicPr>
        <p:blipFill>
          <a:blip r:embed="rId3"/>
          <a:stretch/>
        </p:blipFill>
        <p:spPr>
          <a:xfrm>
            <a:off x="0" y="228600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a:hlinkClick r:id="rId2"/>
          </p:cNvPr>
          <p:cNvPicPr/>
          <p:nvPr/>
        </p:nvPicPr>
        <p:blipFill>
          <a:blip r:embed="rId3"/>
          <a:stretch/>
        </p:blipFill>
        <p:spPr>
          <a:xfrm>
            <a:off x="7459560" y="0"/>
            <a:ext cx="1684440" cy="19810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k plays</a:t>
            </a:r>
            <a:endParaRPr b="0" lang="en-US" sz="4400" spc="-1" strike="noStrike">
              <a:solidFill>
                <a:srgbClr val="000000"/>
              </a:solidFill>
              <a:latin typeface="Arial"/>
            </a:endParaRPr>
          </a:p>
        </p:txBody>
      </p:sp>
      <p:sp>
        <p:nvSpPr>
          <p:cNvPr id="45"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urished from 550-200 BC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hens started it as a honor to the god Dionysus. Dionysus is the god of wine, madness, and ecstas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dramatic genres that were performed…comedy, tragedy and satyr.</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ys had a chorus of up to fifty peopl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itheatres held as many as 14,000 peopl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k were used by actors, Greek word was prosop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re comes from the word </a:t>
            </a:r>
            <a:r>
              <a:rPr b="0" i="1" lang="en-US" sz="2800" spc="-1" strike="noStrike">
                <a:solidFill>
                  <a:srgbClr val="000000"/>
                </a:solidFill>
                <a:latin typeface="Arial"/>
              </a:rPr>
              <a:t>theatron</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ing "seeing place"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ma comes form the word </a:t>
            </a:r>
            <a:r>
              <a:rPr b="0" i="1" lang="en-US" sz="2800" spc="-1" strike="noStrike">
                <a:solidFill>
                  <a:srgbClr val="000000"/>
                </a:solidFill>
                <a:latin typeface="Arial"/>
              </a:rPr>
              <a:t>dran</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ing "to do"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
          <p:cNvPicPr/>
          <p:nvPr/>
        </p:nvPicPr>
        <p:blipFill>
          <a:blip r:embed="rId4"/>
          <a:stretch/>
        </p:blipFill>
        <p:spPr>
          <a:xfrm>
            <a:off x="6705720" y="5010120"/>
            <a:ext cx="243828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ory of Pandora </a:t>
            </a:r>
            <a:endParaRPr b="0" lang="en-US" sz="4400" spc="-1" strike="noStrike">
              <a:solidFill>
                <a:srgbClr val="000000"/>
              </a:solidFill>
              <a:latin typeface="Arial"/>
            </a:endParaRPr>
          </a:p>
        </p:txBody>
      </p:sp>
      <p:sp>
        <p:nvSpPr>
          <p:cNvPr id="48"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us ordered Hephaestus (Aphrodite’s husband) to make him a daughter, the first woman made out of clay. Hephaestus made a beautiful woman and named her Pandora, which means “having all the gifts.”</a:t>
            </a:r>
            <a:br>
              <a:rPr sz="2800"/>
            </a:br>
            <a:r>
              <a:rPr b="1" lang="en-US" sz="2800" spc="-1" strike="noStrike">
                <a:solidFill>
                  <a:srgbClr val="000000"/>
                </a:solidFill>
                <a:latin typeface="Arial"/>
              </a:rPr>
              <a:t>Zeus, the king of the gods, was unhappy because Prometheus had given the fire to man. To balance this, Zeus decided to create Pandora to bring trouble to man. So he gave Pandora a little box, and made her promise never to open the box. But she was very curious. One day, she opened the box and out flew every kind of disease and sickness, hate and envy, and all the bad things that people had never experienced before. Pandora closed the lid, but it was too late. All the bad things were already out of the box. They flew away, out into the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of Narcissus</a:t>
            </a:r>
            <a:endParaRPr b="0" lang="en-US" sz="4400" spc="-1" strike="noStrike">
              <a:solidFill>
                <a:srgbClr val="000000"/>
              </a:solidFill>
              <a:latin typeface="Arial"/>
            </a:endParaRPr>
          </a:p>
        </p:txBody>
      </p:sp>
      <p:sp>
        <p:nvSpPr>
          <p:cNvPr id="50"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rcissus or Narkissos in Greek mythology was a hero from the territory of Thespiae in Boeotia who was known for his beauty. He was the son of the river god Cephisus and the nymph Liriop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was arrogant and disdained those who loved him. As divine punishment, he falls in love with a reflection in a pool, not realizing it was his own, and somehow dies out of frustration. He pined away, and was transformed into the flower which bears his name. The metamorphosis of Narcissus was a punishment for having rejected the nymph Ec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File:GriechTheater2.PNG"/>
          <p:cNvPicPr/>
          <p:nvPr/>
        </p:nvPicPr>
        <p:blipFill>
          <a:blip r:embed="rId2"/>
          <a:stretch/>
        </p:blipFill>
        <p:spPr>
          <a:xfrm>
            <a:off x="0" y="92160"/>
            <a:ext cx="9144000" cy="667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Genres</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gedies: A play that has something sad or tragic happen to the main charac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dy: Plays were the plot is fun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yr: A tragicomedy, They featured choruses of satyrs, were based on Greek mythology, and were rife with mockeries, brazen jokes, pranks, sight gags, and general merriment. All going around a tragic happen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a Mask.</a:t>
            </a:r>
            <a:endParaRPr b="0" lang="en-US" sz="4400" spc="-1" strike="noStrike">
              <a:solidFill>
                <a:srgbClr val="000000"/>
              </a:solidFill>
              <a:latin typeface="Arial"/>
            </a:endParaRPr>
          </a:p>
        </p:txBody>
      </p:sp>
      <p:pic>
        <p:nvPicPr>
          <p:cNvPr id="55" name="" descr="1"/>
          <p:cNvPicPr/>
          <p:nvPr/>
        </p:nvPicPr>
        <p:blipFill>
          <a:blip r:embed="rId2"/>
          <a:stretch/>
        </p:blipFill>
        <p:spPr>
          <a:xfrm>
            <a:off x="2971800" y="533520"/>
            <a:ext cx="2957400" cy="3200400"/>
          </a:xfrm>
          <a:prstGeom prst="rect">
            <a:avLst/>
          </a:prstGeom>
          <a:ln w="0">
            <a:noFill/>
          </a:ln>
        </p:spPr>
      </p:pic>
      <p:sp>
        <p:nvSpPr>
          <p:cNvPr id="56" name=""/>
          <p:cNvSpPr/>
          <p:nvPr/>
        </p:nvSpPr>
        <p:spPr>
          <a:xfrm>
            <a:off x="1523880" y="3774960"/>
            <a:ext cx="632484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simple, stay within reason. You have today and tomorro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ggerate the faces; big smiles or frowns, big eye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is needed; remember they didn’t have make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1T14:04:14Z</dcterms:created>
  <dc:creator>jobert</dc:creator>
  <dc:description/>
  <dc:language>en-US</dc:language>
  <cp:lastModifiedBy>jobert</cp:lastModifiedBy>
  <dcterms:modified xsi:type="dcterms:W3CDTF">2014-03-03T17:15:48Z</dcterms:modified>
  <cp:revision>4</cp:revision>
  <dc:subject/>
  <dc:title>Greek Plays &amp; Theaters </dc:title>
</cp:coreProperties>
</file>